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B9B6-4C9D-49D2-9FF2-8278A3390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4C65-4110-4149-B01C-B761002EC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B151-3CEF-47E3-81A3-5FBD6B1BB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1D0E-6BF3-46D3-A110-1D2F758D1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5E0BB-956C-4EFD-80BD-8E89D17BD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10053-6CC2-4857-B611-6D1BEF427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4A721-068A-499E-8E9C-34835FEE7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B8BC2-08A7-4B2B-973A-6139C7258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09E37-6ADF-447E-B4E0-FE144EC8E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36C1B-AF6C-4B68-87E1-8E00ECAB0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B3E09-0979-4AE3-A428-369DBA616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4A22-E745-44A9-9CAE-7EB47FF55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14C89-39A2-4D8D-BFC9-66138D952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EDB9A-A4AA-4806-92FE-3F38D630B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976DC-D664-4FC8-B322-3A66975AF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6E073-ABE8-4424-B4D1-0E7656763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21A0F-5F4D-406E-B195-798A31BF0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AB7E-444B-400E-AA3E-BBA1D5483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9A26-F2B9-4A71-B679-3E27F5B78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023E-70FC-44EF-AC51-774261026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82E2-3BAE-4F01-BCAC-3643BD39C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FEA2-2F19-47C2-993D-FF96C5A42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619D-3A0A-4D4C-9A96-9FAAE289B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BAFA-F07F-4A52-883E-6133169AC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d6dae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d6dae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D600D-1014-4B50-AF7E-96B49145CCF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3333cc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4A7E4-DB2C-499A-AE1D-7D6558828C1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28400" y="856800"/>
            <a:ext cx="8205480" cy="186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70717"/>
                </a:solidFill>
                <a:latin typeface="Wide Latin"/>
              </a:rPr>
              <a:t>    </a:t>
            </a:r>
            <a:r>
              <a:rPr b="1" lang="ru-RU" sz="6000" spc="-1" strike="noStrike" u="sng">
                <a:solidFill>
                  <a:srgbClr val="e70717"/>
                </a:solidFill>
                <a:uFillTx/>
                <a:latin typeface="Times New Roman"/>
                <a:ea typeface="Times New Roman"/>
              </a:rPr>
              <a:t>РАЗРЯДЫ  ИМЕН</a:t>
            </a:r>
            <a:br>
              <a:rPr sz="6000"/>
            </a:br>
            <a:r>
              <a:rPr b="1" lang="ru-RU" sz="6000" spc="-1" strike="noStrike">
                <a:solidFill>
                  <a:srgbClr val="e70717"/>
                </a:solidFill>
                <a:latin typeface="Times New Roman"/>
                <a:ea typeface="Times New Roman"/>
              </a:rPr>
              <a:t> </a:t>
            </a:r>
            <a:r>
              <a:rPr b="1" lang="ru-RU" sz="6000" spc="-1" strike="noStrike" u="sng">
                <a:solidFill>
                  <a:srgbClr val="e70717"/>
                </a:solidFill>
                <a:uFillTx/>
                <a:latin typeface="Times New Roman"/>
                <a:ea typeface="Times New Roman"/>
              </a:rPr>
              <a:t>ПРИЛАГАТЕЛЬНЫХ</a:t>
            </a:r>
            <a:endParaRPr b="1" lang="en-US" sz="6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32000" y="3284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e43cf"/>
                </a:solidFill>
                <a:latin typeface="Times New Roman"/>
              </a:rPr>
              <a:t>Автор: Колыбина Ю.А., студентка 4 курса филологического факультета КГПИ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e43cf"/>
                </a:solidFill>
                <a:latin typeface="Times New Roman"/>
              </a:rPr>
              <a:t>2011 год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Times New Roman"/>
              </a:rPr>
              <a:t>ДИДАКТИЧЕСКИЕ ЦЕЛИ: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формировать знания о делении имен прилагательных по значению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оспитать интерес к предмету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формировать умения выдвигать предположения, проводить наблюдение, сравнивать, обобщать, извлекать информацию из сообщения учител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ОСНОВОПОЛАГАЮЩИЙ </a:t>
            </a:r>
            <a:br>
              <a:rPr sz="4400"/>
            </a:b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              ВОПРОС: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708000" y="2421000"/>
            <a:ext cx="4902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6600"/>
                </a:solidFill>
                <a:latin typeface="Tahoma"/>
              </a:rPr>
              <a:t> </a:t>
            </a:r>
            <a:r>
              <a:rPr b="0" lang="ru-RU" sz="5400" spc="-1" strike="noStrike">
                <a:solidFill>
                  <a:srgbClr val="ff6600"/>
                </a:solidFill>
                <a:latin typeface="Times New Roman"/>
              </a:rPr>
              <a:t>Зачем изучается 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6600"/>
                </a:solidFill>
                <a:latin typeface="Times New Roman"/>
              </a:rPr>
              <a:t>  </a:t>
            </a:r>
            <a:r>
              <a:rPr b="0" lang="ru-RU" sz="5400" spc="-1" strike="noStrike">
                <a:solidFill>
                  <a:srgbClr val="ff6600"/>
                </a:solidFill>
                <a:latin typeface="Times New Roman"/>
              </a:rPr>
              <a:t>морфология?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Picture 4" descr="QUE_COP"/>
          <p:cNvPicPr/>
          <p:nvPr/>
        </p:nvPicPr>
        <p:blipFill>
          <a:blip r:embed="rId1"/>
          <a:stretch/>
        </p:blipFill>
        <p:spPr>
          <a:xfrm>
            <a:off x="971640" y="2349360"/>
            <a:ext cx="2504880" cy="3240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4880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99"/>
                </a:solidFill>
                <a:latin typeface="Vivaldi"/>
              </a:rPr>
              <a:t>         </a:t>
            </a:r>
            <a:r>
              <a:rPr b="1" lang="ru-RU" sz="4800" spc="-1" strike="noStrike">
                <a:solidFill>
                  <a:srgbClr val="ff3399"/>
                </a:solidFill>
                <a:latin typeface="Vivaldi"/>
              </a:rPr>
              <a:t>ПРОБЛЕМНЫЕ         </a:t>
            </a:r>
            <a:br>
              <a:rPr sz="4800"/>
            </a:br>
            <a:r>
              <a:rPr b="1" lang="ru-RU" sz="4800" spc="-1" strike="noStrike">
                <a:solidFill>
                  <a:srgbClr val="ff3399"/>
                </a:solidFill>
                <a:latin typeface="Vivaldi"/>
              </a:rPr>
              <a:t>             ВОПРОСЫ</a:t>
            </a:r>
            <a:r>
              <a:rPr b="1" lang="ru-RU" sz="4800" spc="-1" strike="noStrike">
                <a:solidFill>
                  <a:srgbClr val="ff3399"/>
                </a:solidFill>
                <a:latin typeface="Times New Roman"/>
              </a:rPr>
              <a:t>:</a:t>
            </a:r>
            <a:endParaRPr b="1" lang="en-US" sz="4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2205000"/>
            <a:ext cx="754380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1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Почему прилагательные делятся на разряды?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Может ли одно прилагательное выступать в разных разрядах?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ut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55280" y="304560"/>
            <a:ext cx="785484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70717"/>
                </a:solidFill>
                <a:latin typeface="Rockwell"/>
              </a:rPr>
              <a:t>УЧЕБНЫЕ ВОПРОСЫ:</a:t>
            </a:r>
            <a:endParaRPr b="1" lang="en-US" sz="5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33ff"/>
                </a:solidFill>
                <a:latin typeface="Tahoma"/>
              </a:rPr>
              <a:t>Сколько разрядов прилагательных?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33ff"/>
                </a:solidFill>
                <a:latin typeface="Tahoma"/>
              </a:rPr>
              <a:t>Какие это разряды?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33ff"/>
                </a:solidFill>
                <a:latin typeface="Tahoma"/>
              </a:rPr>
              <a:t>Как определить разряды прилагательных?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ut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           </a:t>
            </a:r>
            <a:r>
              <a:rPr b="1" lang="ru-RU" sz="4400" spc="-1" strike="noStrike">
                <a:solidFill>
                  <a:srgbClr val="0066ff"/>
                </a:solidFill>
                <a:latin typeface="Times New Roman"/>
              </a:rPr>
              <a:t>Представление результатов исследования: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Times New Roman"/>
              </a:rPr>
              <a:t>Стенгазет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Times New Roman"/>
              </a:rPr>
              <a:t>Веб – сай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Times New Roman"/>
              </a:rPr>
              <a:t>Кроссвор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Times New Roman"/>
              </a:rPr>
              <a:t>Формулировка правила (в таблице, схеме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Times New Roman"/>
              </a:rPr>
              <a:t>Буклет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Times New Roman"/>
              </a:rPr>
              <a:t>Презентация докладо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Tahoma"/>
              </a:rPr>
              <a:t>     </a:t>
            </a:r>
            <a:r>
              <a:rPr b="1" lang="ru-RU" sz="4400" spc="-1" strike="noStrike">
                <a:solidFill>
                  <a:srgbClr val="ff0066"/>
                </a:solidFill>
                <a:latin typeface="Tahoma"/>
              </a:rPr>
              <a:t>Этапы проведения   </a:t>
            </a:r>
            <a:br>
              <a:rPr sz="4400"/>
            </a:br>
            <a:r>
              <a:rPr b="1" lang="ru-RU" sz="4400" spc="-1" strike="noStrike">
                <a:solidFill>
                  <a:srgbClr val="ff0066"/>
                </a:solidFill>
                <a:latin typeface="Tahoma"/>
              </a:rPr>
              <a:t>              проекта: 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773000"/>
            <a:ext cx="754380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Times New Roman"/>
              </a:rPr>
              <a:t>1. Выбор темы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Times New Roman"/>
              </a:rPr>
              <a:t>2. Поиск информации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Times New Roman"/>
              </a:rPr>
              <a:t>3. Консультация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Times New Roman"/>
              </a:rPr>
              <a:t>    </a:t>
            </a:r>
            <a:r>
              <a:rPr b="1" lang="ru-RU" sz="3600" spc="-1" strike="noStrike">
                <a:solidFill>
                  <a:srgbClr val="009900"/>
                </a:solidFill>
                <a:latin typeface="Times New Roman"/>
              </a:rPr>
              <a:t>преподавателя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Times New Roman"/>
              </a:rPr>
              <a:t>4. Самостоятельная работа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Times New Roman"/>
              </a:rPr>
              <a:t>    </a:t>
            </a:r>
            <a:r>
              <a:rPr b="1" lang="ru-RU" sz="3600" spc="-1" strike="noStrike">
                <a:solidFill>
                  <a:srgbClr val="009900"/>
                </a:solidFill>
                <a:latin typeface="Times New Roman"/>
              </a:rPr>
              <a:t>учащихся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Times New Roman"/>
              </a:rPr>
              <a:t>5. Защита проектов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Kozuka Gothic Pro B"/>
              </a:rPr>
              <a:t>РЕСУРСЫ: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Tahoma"/>
              </a:rPr>
              <a:t>Русский язык: Учебник для 6 класса общеобразовательных учреждений / Т.А. Ладыженская, М.Т. Баранов и др. 33-е изд. - М., 2005 г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Tahoma"/>
              </a:rPr>
              <a:t>Русский язык: Полный справочник школьника и абитуриента </a:t>
            </a:r>
            <a:r>
              <a:rPr b="0" lang="en-US" sz="3200" spc="-1" strike="noStrike">
                <a:solidFill>
                  <a:srgbClr val="990033"/>
                </a:solidFill>
                <a:latin typeface="Tahoma"/>
              </a:rPr>
              <a:t>/</a:t>
            </a:r>
            <a:r>
              <a:rPr b="0" lang="ru-RU" sz="3200" spc="-1" strike="noStrike">
                <a:solidFill>
                  <a:srgbClr val="990033"/>
                </a:solidFill>
                <a:latin typeface="Tahoma"/>
              </a:rPr>
              <a:t> Сост. М.Е. Булаева – 2-е изд., доп. – М, 2003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4T15:07:01Z</dcterms:created>
  <dc:creator>Admin</dc:creator>
  <dc:description/>
  <dc:language>en-US</dc:language>
  <cp:lastModifiedBy>студент</cp:lastModifiedBy>
  <dcterms:modified xsi:type="dcterms:W3CDTF">2011-04-05T10:31:31Z</dcterms:modified>
  <cp:revision>9</cp:revision>
  <dc:subject/>
  <dc:title>    РАЗРЯДЫ  ИМЕН  ПРИЛАГАТЕЛЬНЫХ</dc:title>
</cp:coreProperties>
</file>